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6CD-EFE5-444F-8121-A1CF661D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09D-8126-4AE7-84E4-5B9C582A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A6A-A4E2-48C1-B54E-D83BC51F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4DB-CB95-4339-BAE8-5512DBF5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69CF-820A-4D0C-A269-017C6AE4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EE33-0EAD-4E51-AEA4-2EE0B8CA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45B7-2CF1-4046-93F8-C8FACDD5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BA32-96C2-40AF-9FBE-7BEDD245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131B-286B-43AE-B232-7AF9F86D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42A7-0B57-4652-B1C2-F2D2224D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008D-96E0-4292-B546-F7061538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1B1-99C8-4EB6-B122-8B7D084B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6932-08B3-46FB-A7A4-15EA06A1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D1ED-622E-4865-8E7E-16B29B61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9A8F-8969-46D4-A825-CCDB64D0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204E-99F7-45B8-8395-F013B6C1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D62D-29E5-4B9A-AC4B-ADBA884B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14F-62D0-4027-BCCE-39D03605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B5A-4716-4AF1-8AF9-BBBBC414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896-9959-4ECC-BED5-194629D7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684-922F-4A9E-A1C7-667A346C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BF3-0A12-4AC8-AFC3-90DF4A11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11A-2FBD-4C87-8372-0F0776B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966-0BE4-4390-8753-91D21159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F2C9-B57D-4ED0-B9F3-D975F74C863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F406-78F6-4835-8BAC-0A10D69B12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2DD1-631E-4BEF-8A89-6D0E38EE6B6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A3E4-53ED-470B-BA23-D37535329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ЮДЖЕТ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О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ДОХОДЫ БЮДЖЕТА В 2014 ГОДУ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СТРУКТУРА НАЛОГОВЫХ И НЕНАЛОГОВЫХ ДОХОДОВ В 2014 ГОДУ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3628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РМАТИВ ОТЧИСЛЕНИЙ ОТ НАЛОГА НА ДОХОДЫ ФИЗИЧЕСКИХ ЛИЦ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9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Безвозмездные поступления от других бюджетов бюджетной системы РФ          тыс.рублей</a:t>
            </a:r>
            <a:endParaRPr b="0" lang="en-US" sz="16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Диаграмма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7408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СХОДЫ БЮДЖЕТА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3" name="Диаграмма 8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7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Структура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расходов бюджета на 2014 год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396720" y="1054080"/>
            <a:ext cx="857124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Admins</cp:lastModifiedBy>
  <dcterms:modified xsi:type="dcterms:W3CDTF">2014-10-22T08:17:26Z</dcterms:modified>
  <cp:revision>46</cp:revision>
  <dc:subject/>
  <dc:title>Слайд 1</dc:title>
</cp:coreProperties>
</file>